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36016"/>
        <c:axId val="92123381"/>
      </c:barChart>
      <c:catAx>
        <c:axId val="70836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23381"/>
        <c:crosses val="autoZero"/>
        <c:auto val="1"/>
        <c:lblAlgn val="ctr"/>
        <c:lblOffset val="100"/>
        <c:noMultiLvlLbl val="0"/>
      </c:catAx>
      <c:valAx>
        <c:axId val="92123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36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F83-E853-467A-90F7-5FDFE484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920-A9B8-49E7-9865-346844F5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84A-3433-4970-917A-EB9C9D2E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405-B565-4271-BC47-14CAE4C8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28E-1B90-41EE-9C69-D27CED94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01B-4D14-45BA-9852-05BE4815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F26-4A5D-4753-8C5A-EA939348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932-8024-4273-92FC-5DA99F79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907-B45D-46D2-9498-03B77FCA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0EC-88E5-4D1E-A633-42B7CC1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208-BDB8-4CCB-8B3F-ECA0054E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E5E-6841-408C-AB11-DE75028F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FD8F2-DE3C-4BA9-B4FC-75863C7805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