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B8C39B3-7A9C-42C3-A6A5-7CB69CEE411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90FE6C8-5511-49D0-B41B-223F5EF31F1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E35C5D7-29EF-45DE-AF63-11800226BCD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3FE0B72-6258-42EC-B7AE-2075F33A0AB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E1F9B53-C38B-40B1-982A-F5B87D4F6E1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DEE1CF9-81FD-44B9-8FB0-C26A4269D35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A0F5414-22BA-4855-993B-61C1FFA5A22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BC9392C-9359-478A-A59E-AA8DDB23665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4870C4D-2B6E-4CA4-99C7-32121591AB2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FE75012-7DBD-4050-BE17-6094A74DD70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E404BEC-72D0-4206-A64B-397FB913F08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4213DBF-3E04-46F1-A074-CA1352C82B9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1753E24-7A4B-4F9A-8C04-831BFC4F57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D76E94B-E98B-4EC7-8F36-23FD4AC355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FD61EA3-4A95-4AD6-8EB0-540FAC85371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B784EDA-A3D6-4A13-822F-9CA3042B0FE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C88FF11-B985-4305-840A-0DFF7D60005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E5F6B3F-315D-4D11-AC9D-AE14D7B9CDE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F2A416B-5324-424D-ADA6-1F21E678FB4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FC0D2F7-FC99-4CB7-8C55-518031A1195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8653426-032F-4FE1-B44F-525DDCAFB44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C2660DB-EE6A-4FF6-908F-F07E31EE262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DE9C91E-4840-4FE6-BDD1-11CDF31CE3E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5095BF3-3B0E-4A31-9015-69E8BB1FC29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C0A966C-5DA2-464E-8BB9-CE3430E6337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6814570-2682-473D-BA77-5C92B5CD5DA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62DEDB7-0D63-498F-811D-C26C54D97A2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F54CE2B-DF44-4E0E-9284-E9A14D62174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8650C05-CAAE-42FA-9FA6-0DD76E3D842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5C70FDD-2597-4E14-B392-9F640384B87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D2A0123-6812-4AF1-81BF-10C8C5C0756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D7E3397-FC12-42C2-8462-B10EF1DDDF5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AE52967-E049-41A8-A24E-F98189F902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0B68506-13AB-40DF-9D53-BE0783C6E0B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4FC50A-AE9B-4D0A-B6E0-4CA561724B4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3DE2728-C270-451A-9BA3-1C265AFB673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E0E05-8BB9-4B13-B60A-680312B481C0}"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B7C15-22B7-4064-BCE3-2CCAFE2A79A6}"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64A8947-11B3-411C-956B-7FA9F99B4FE9}"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5F29FBE-AD3D-455A-B6E3-B9E1CB41BD2D}"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1A4DA35-4768-4348-B5F8-707A7461B0BF}"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212E71D-CFDF-4DDB-8006-411B35E54EF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E6DD4E6-9F16-496F-BEA5-F184F1168A3A}"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6817223-9815-463C-ACFE-B4D0FB38EFD6}"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08F6C3C-E756-4937-9F46-0409CF250AA8}"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4AA63FA-5BF6-4104-AD6D-75A5AA1ACCBA}"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E36C0A9-8FB1-4A5C-81FE-F4D5DB3CDD09}"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D13FB7E-AB23-4780-B75E-EBD033C7220E}"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D140CEE-2751-4BE2-BC37-03BB7745B354}"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620BF661-1F08-457C-BA9C-7AD392D77A05}"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C0692B5-FE42-41C0-9680-D42D010DCFA9}"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78B4B54-DA82-4672-982C-5796D6B67FC8}"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AA7F009-4F5B-474C-89C6-97BD48CE1AD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331AD2E-8E4E-48BC-8901-5B8EDFF12DAF}"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5F93DFD-4A68-4F34-BFD3-0DBA3A450B9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3BD9296-16DD-4ECF-9FA6-57C884B9261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17BDEF9-D590-4A1E-9CE9-5E0F8B75C08C}"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B9E4818-B77D-4A72-A75A-3E5DF898D60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5763E3A-DD4C-4E5B-BED6-077E0744BF1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634D2EB-CE04-433E-8595-5BE2B2589CE3}"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C21BC1E-28C1-46DF-9B6C-93653B8F10C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D815994-093D-4764-B98A-B3BB34B88B4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D2615D3-172F-4480-89BF-13483CBF81B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1F22D1E-4104-43A0-AA1D-892C361D4A0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9389233-53B0-4CAF-B7DB-2165B67D34D5}"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D47ADFD-0E8D-464F-A471-F11CD3E6718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B61DB64-6A2D-4E3C-8DD0-E4A5339E642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FA1DE08-16CE-4CF5-9F57-0E35B5756C01}"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780942E-5C61-471C-94AB-6860E09621D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E026644-73C3-4D36-BAF0-0DB0D9FD588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4932D8F-7BC2-49F2-BFD5-CA3EBA45075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2397228-AD03-49E0-AFA1-CEFDB78786B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06892D7-806A-41B7-8234-A32B5FE7E34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2DDF61F-68A3-4084-87AA-E0309804883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E8E341F-8782-4812-BB91-46F2B67E907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D3A6C63-C20A-4609-AF9D-B68AAA6C6E3A}"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30785D2-53D2-418B-9ED2-CB9132F87CB2}"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836DA4D-E2EB-4C53-931B-1F5FF23EC94B}"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76F7C2C-2749-4221-98A3-AA20B80561BB}"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7412CF4-BF56-4DFF-90E2-3E03A6876B82}"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C424C07-3FD6-4B21-8D1A-E706AE022172}"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4B61354-EE43-4FD9-ABCD-C3A4449F7774}"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477F7B8-F478-4452-B63D-ED11CCBDD568}"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DF73787-FF33-4A87-A00D-6836CAE89AED}"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9CC5304-E176-4291-9373-C0423C97E8A7}"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CEE204A-77F8-480A-8D4A-A8C74C1C5B74}"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14A4CE1-F1C2-4A7F-8D61-E5B4764CB2A7}"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E9FC625-2097-4773-BF11-8EE67C87FFE0}"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F5C2786-8F9A-4639-9553-BCE758C76E09}"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497AAE9-83D2-4DC2-8DEC-B5C0613E09D4}"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62AF829-E60D-4047-BE10-A2A4425CBD8D}"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129D7E0-805B-4364-A108-9DEB4CEBEDC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B8DCE70-FFFF-4B51-8940-FA95E811B48A}"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FF548A7-58ED-4E4F-97CD-E370826D30B0}"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1DF8E8E-8499-4528-8BF2-E7B16BCFD3D0}"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97D76AE-9789-48D4-925A-A43E3F427DF4}"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F5D1F5D-0364-4A1B-838F-97D7C5C182E4}"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B948E1C-45A8-44B3-B1CA-9AA2C4C99950}"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CEEE40A-DCC7-4310-B04B-80E8CE87F823}"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0B9C79E-FA1A-4849-B7B3-DA5D4B6976A1}"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C4B92BC-F232-415A-9D12-B715CF52B8F9}"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F1AE5D9-5E92-4F38-BA6B-51DBAD8604AB}"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F1EA095-C4E1-49E7-9437-B2700089E509}"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486B0C2-771F-4968-BA4D-4A5416A9BA26}"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9F1B017-E225-4E90-9E04-A4A60F4A3FCF}"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25B5FC1-FCE2-4CB6-B108-5C5F6D1EB3D7}"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DFBD0AB-0928-49FD-88DC-58FE41F12C23}"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367BAED-EE4E-464E-BA2D-070543A44F1A}"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C4DC29B-9073-43D5-BD96-66142F518D74}"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EBC796F-5C05-4CBB-8C07-14EE76079757}"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36363E7-BBEB-4601-8996-A78CD76378DE}"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7E9C80E-E757-4DBE-AB72-68E811215DD7}"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B10388C-BC4C-465A-B715-3D48F678D581}"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AE320DD-7C90-4305-AE9C-8D8C1AC5CFD1}"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A718BE3-7F16-4CB4-BB1D-EA9C0FDC2E29}"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9ADB668-CAEC-43F0-A2B9-FE221C84B5C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7BACE6F-532E-4B8B-93EF-B81D8D927B60}"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B5A3CE8-A776-4982-B7A4-F3A5B676E65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531F57D-B600-4F70-854D-4ACCAD4CD49E}"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1F3AB7A-6BCE-41A6-8C4B-32455683EB8B}"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4A76CA3-B375-41C7-AEB6-B13BB04CFE84}"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7394B4D-A663-4133-9636-6354E0E712D1}"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5D64F44-E9D5-4863-B328-9AF1E3F8492B}"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05E2599-889B-48E6-A5C9-A964257600D2}"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8C78EF7-2814-4FAC-8F05-A1AE924E17D0}"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CE47E8C-79E0-483B-8FFB-EB4A9D94FB84}"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FC1C1B2-0DB3-470B-88C4-9BD836F4969F}"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8FA0139-B404-41FF-81FB-D28AB3A50CB7}"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98B225C-5B4A-41AD-8BAD-8FEDF235E829}"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AD14AD8-17D0-4C92-8AFB-4EBAD4EE6B93}"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3F5AADE-2A1D-4CB1-B59A-A06E3D2F2430}"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D0BBC2B-5230-4051-947D-03A7C4E15B7C}"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E905B7A-E4ED-4014-9682-CE1212A3BF89}"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51910C1-7F4B-4CE0-8D8D-9AC1E77EC7F6}"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ADC5849-472C-4278-9B54-288E775AA116}"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E8F254CB-7928-48C9-88F8-C6B25F9B14FE}"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29D9E75-22F3-4EB4-84F6-D1B024B56A0D}"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9FB22FA-0349-47A6-AB6B-4650A21043EC}"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2AD4287-3626-4D22-B6DC-42CAB803A150}"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6B874CA-22EF-48A9-9D57-EF4BA2402733}"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BA6C339-AA63-4A0A-B09C-43793D290EF2}"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2F3E70A-AFB6-4AE3-8EC7-BB6888E340CC}"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1910EF8-DF83-4A98-9727-A54B861A6F04}"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1BEFAF7-012B-4093-BA3C-7B1F3EE212B2}"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8DF4D1C-0D77-44F1-859C-5F9574123EB1}"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D7EED66-3720-4109-ADA8-162C37C3BE75}"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1F34C46-8087-45DD-B8BD-FEE7AB1803D5}"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FE48409-EED0-4214-819B-55E3271B7C0D}"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5943989-6813-4DC0-94D8-C49488CF90DD}"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