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566124"/>
        <c:axId val="7221577"/>
      </c:barChart>
      <c:catAx>
        <c:axId val="35661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21577"/>
        <c:crosses val="autoZero"/>
        <c:auto val="1"/>
        <c:lblAlgn val="ctr"/>
        <c:lblOffset val="100"/>
        <c:noMultiLvlLbl val="0"/>
      </c:catAx>
      <c:valAx>
        <c:axId val="72215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661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3214-1570-4C09-B976-7CD3FE3BF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569C-3C9B-4584-98A6-5E2C4E2F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FF00-D3BE-48DA-8F11-D0A924189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9B37-A018-4F41-8DD2-C0E70C964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2B720-7A5D-46FC-8EA4-BF487E35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CB68-9E33-4A97-B28E-0DA6F1371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7965-1D8C-4D1B-8D3F-BCA80C262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0A72-1EFB-4ECB-A489-5A3941FC9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94F4B-1634-4986-A4C7-DFBDAF156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863B-6A37-47A7-B75F-C4358B734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4366-4514-44BB-8B4E-27121A5A3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0F69-6A1D-4D62-B2CD-80A249BD4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9A8552-36CE-477C-BE8F-4F7D58E2191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