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9B99C24-2ACA-4CF9-AFB2-3CF3FBF2F8D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6307E1-22F8-4A4B-959D-23EB6C878C5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3E4C883-4AF0-4301-8CD8-AC65F1D3CDE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2DE0C2F-C7A6-402D-9E1E-34E2DD4DDE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7FC0E7E-1670-4BF3-9083-2EB67892A8A5}"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307A6B-0CD1-4575-9953-D90774BA8ED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D1796B8-9972-4B52-8DB9-73D9F20D93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518C4C-5719-46A8-B181-DD2FDB4091F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A2F456A-E2AB-4A1A-88F9-109A8E3C089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3277839-E86C-4516-81E6-895CD1DB870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85D048E-BBA2-44EA-AB29-C118855680E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5FC1A06-E18E-4C48-A76A-37C6DF105C9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BD9A7E-7FA2-4B0F-82D1-FC120B4F524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D5BF28-410A-4C80-9167-27AD0640DEF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8A2CE76-002B-48B9-8A3C-FC34422C9FF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D16E1D-2A02-4750-94FD-B600DC2EC2A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FFA9A40-241B-4589-A7FD-A220F47F4C8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EC15E3-5F97-4373-8314-75F8B221C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E57EFA1-3830-4DF3-BECE-DF99D5F7A2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63E7F3-1BE0-41AF-B18B-8A2ED7064CB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735C5D-1D0D-4D58-8BC6-6387C1A9A2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C4B75F-D60E-45EE-90EB-C34B556FA7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F50C40-69CD-403C-9047-2CB804F6466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E04CE8E-2FDD-4DC6-B8B3-7DD09C0E05B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72F7D1-7EC9-46ED-8F40-DF882E3985AC}"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CED67D-1C50-4D56-B423-AE70EEBF200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457044-A2D7-4B40-A31C-456E7AA60B8D}"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228C909-F1AB-42F7-AE1E-15B01D5B2C98}"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F06489-71A4-47E7-B93A-828770B37014}"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C73229-A65E-48F6-93FE-66B22172DBA8}"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36AFB5-4239-4384-9B3C-BD9EF2B8AA4E}"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73447-D2D8-46C7-92CC-6A862750483B}"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3C71CC-4272-4B23-9D66-2F6774787D2E}"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799A8-EB30-49D5-8104-F29C157469B0}"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D475A5-49B8-4FCB-8948-0FBB45CD6ABD}"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45B2076-620C-49E2-A0C6-32D9DEBDE8AE}"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243E68-DF9B-415D-B79A-91AE009F0D99}"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EAF563-8787-4C11-A811-2CA2B4170DC4}"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BD448E-E81A-4DA3-B62A-87AA60886EBA}"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934794-C97B-441D-8BA2-43346ABA99AE}"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4E217E-D950-49E6-AC3A-FD99C6CE4C7B}"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6F821-DFEC-4A41-9161-F54E5368CE58}"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7FFEF3-B497-4232-A639-03D1861D3C73}"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150EFC-598A-4D6F-8C48-1A6779DBD941}"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EC0B90-FA9F-49A9-B848-52477B7AC02C}"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3CD19AC-B373-44F9-A1FB-F8C8F7D0CAD4}"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CB5CDF-C6A8-4734-A766-222B48931FA1}"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FB425F-14C5-4392-845E-666DD6BDB3D2}"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9310AF-37F0-409D-97C2-E4623E9F539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DB2417-954E-4A7F-B9F2-CFB2BF03A6D1}"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1A86283-6371-41A4-A825-8B105256BADC}"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A9E374-40BC-4AF8-928F-EFBA57159B44}"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CC706E-86DA-400F-83C0-372ED98961D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A34CF0BA-AC27-4D7A-8712-DE4EEB560889}"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7F1D4B-CF08-40FB-96C5-7EA95DBC9020}"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A93F7E-69F7-4552-95DC-BF86AA66C7ED}"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FBC37C-430A-4D93-80E0-73EA1E86FD18}"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35C4FF-81EC-4BAC-A7C0-843DC5F8E329}"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A37024-D937-4517-9B05-456A2CC55A20}"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13C0E5-4B69-4443-A85C-8687975A79A6}"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F17598-E24F-4913-AB67-2F43FB52EAC2}"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7221FF-3542-4080-86DC-B93F4D388349}"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C4C7ED-80D2-4C9F-8774-C1B86E83C158}"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D58D77-F4F1-43E1-8571-84694D6EE640}"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7A7D2E-748A-4070-8B53-FABD5E83EDC3}"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56DA3-7A80-48FB-AFBA-578396C79C9B}"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389BC1-C5E3-4275-AD52-348B04B821D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68C873-719D-48F3-863C-C11C3CEB1C3C}"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5D221D-3269-4AD3-A0EE-FCF45447EC3A}"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999022-9B4E-439A-9539-810B5D447D41}"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7BFB0-FE4A-40DF-A3F3-E76CD7274A2E}"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AECB20-6479-4651-9AD9-BD657C217046}"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1375D6-2B14-4F9D-8479-7CC763968AB8}"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D08ECD-4735-4B1D-B3BE-C17C98048849}"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AAAB1A7A-9EC8-4784-A7F9-E1123C9784F1}"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D6A5D3-9D76-4284-8B2B-CB204AD13E7C}"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EFDB75-C05E-456A-A12F-8C6A94443ADC}"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5958AC-1C88-4A07-B257-BEB81DF2118E}"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037D43-C941-4CDE-9AC1-7F58C51D76AA}"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C64A96-449B-472E-8C64-C1162AC02E1E}"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60D601-0768-4ECE-83DC-81DE63252DC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038329-83D4-4722-BE7B-D0B6A85733DB}"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98CEA8-2224-4C43-BDF3-3CF8224D6B83}"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102033-9C41-4CF7-A4DB-8CC5618D0677}"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999B61-9BA5-45D7-8AAE-BFA6DD74A21E}"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56DBC7F-B7AC-41A0-950E-36FE613E8FD5}"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BBA9D8-411B-4A2E-9DA2-4E4ADF4EA463}"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A6F932-76E5-43DF-9D39-3D065C653C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690EF6-751F-4AF5-B124-6772EDFC08C3}"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28F3FA-929C-4A08-B974-DB8E94A90131}"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BA9256-21D8-4EF0-AA1E-6D1FA54AEF92}"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DCF8746-1057-4340-88BB-0A25D695081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BE57FE-0BDE-4BB4-8333-369F7455E7C6}"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421A50-A0D0-44C7-AA3C-2B8C0917340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300C74-ABA1-4660-ACF0-CD77715A420C}"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EC4D5-BCCB-41AA-9228-F3BE3C9FCF0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B958C3C-4E3C-4FE1-9542-8D04D9DEA3E6}"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46FD9F-2DCA-4939-A530-5A6ACD544573}"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868428-BA34-436E-BF02-E20E933108D2}"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BDAE6F-7B9F-42DA-A928-C5E8DB42609E}"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F7F6DD-3449-41AB-A84C-F0C71F379FF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DF6FD9-7EFE-4E57-818B-DDFDEAC6D4ED}"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BDE9D0-7BA0-4004-8642-32512631E1AB}"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90424CAB-B926-4E36-9699-181AA767C922}"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1D4447-C107-4F45-A9A6-C1CCF83E47BB}"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A1D01D-63E7-4513-A388-9B640F9A2455}"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2CDF5C-9201-4780-BCED-58BBB32013A3}"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2685CE61-C9DC-40A3-9A4A-ECA4008A5212}"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51BF1-3C92-46CC-95A2-47EB7B03DCAF}"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4D2761-CA34-4FBD-B335-3034A0C828B6}"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DACA6-EDC8-420D-92AE-12A8E6666A41}"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68D0FA-6B95-4196-ACC8-9750500F0E6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7BA870-9352-463C-B73C-7B5824342CF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154F3A-99A1-4719-92E3-46774D43A147}"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696B98-8161-4521-BFD9-B4F9B5807A60}"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9E7999-A980-487F-B144-255C8DDCA7F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554BE9-0BA3-42CC-9F63-AD7A655269A5}"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0DEEC-BA60-43F7-B319-1B25CD7BC7E2}"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4CA345-04A1-455C-842C-9E805790F1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DF9369-0603-4A01-90AB-4993CFBF3C8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79E9D-8C53-41AF-9D71-374BF0DECD2A}"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BE275C-DF00-49AF-AC16-C97386C7C9EA}"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3034CE-D954-41CA-83A8-7BA06EA33D4D}"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D119DE-9034-4029-AAB2-B16D55847033}"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AD6688-4007-4E9B-A605-2F5FD18FA8D4}"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8DA57B3-AC8A-404A-8F1E-2C739E51E6C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D5A250-250B-4CA1-BE2F-CAFE21362229}"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0BCB6F-BB6A-4F5D-BF96-09A376FB60D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36081-BB3F-4226-B26B-506ACB298B2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ABF1D9-09C9-442D-9D4A-7C640A5AA51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B2FA4B-E906-4411-9C92-EDBD6891483A}"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686AB11-2C43-4D6B-AB61-97DE6E48388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68B3E7-4EE9-4263-A9E6-DAC3EAD08A80}"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3D008-5F9E-4F41-8CCA-BF9455929CA0}"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361105-4928-4807-B705-9FE54861DAF8}"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D5129E4-B728-4E00-87A1-824249E44A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9CEA73C-2BEB-401F-B4CE-CC4F99CF7366}"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6AF800-811F-453B-8750-169C658490CC}"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410B1E-49BA-48A7-9E43-1C92BB43F2D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AD648B-9CA3-41EC-92E8-68194C919FD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9EB0D-0B49-47D5-8C48-F988241F121F}"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107E81-CF24-479D-9250-E648D6C399B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C06C0C-872D-4EC3-8F68-3E9FC09A3F5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BFD77A-1995-4C71-A51B-D052A63E9A3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5A6186-8757-4976-A6A6-9BB034508BC3}"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42C87-A76F-4F50-9305-0FCBA5F4653C}"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295A7-AF97-480A-B284-C05E55D23283}"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DD4939-1B68-43CB-A99E-7B0FDD1EA3C5}"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04B188-CDAE-452B-94CC-8D101D884F5E}"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B6D796-1F09-4570-A9DB-987B3EE524A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564354-28B0-4E76-845D-BC01B517AC31}"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BD2807-F829-4684-84B8-E70846730571}"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CFC7FE-CAC5-4FBC-AFD9-CB4AB6BD6270}"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7CE4600-64C9-4FD3-A23A-18D9CC7A5E6B}"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2E9E9-3C20-44F5-ADAB-B7961897B5DB}"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DAA2F-E76C-45A5-B98F-36D09AC31CC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BB3DF6-CE2D-46B8-BF1D-3635D1EE76B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2BDABB-1A35-4460-9DCD-51ADDA387D1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82B01B-4A72-470E-BEF1-069CDF7CAD4D}"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008DF2-366A-4309-80AF-BA1CE863C4B3}"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3803890-B80E-42A6-AC04-8FE348BA543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56330C-2D5E-4A42-84A0-AF91F64980E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5858A4-E086-4DFB-AD6A-94CF36D1D00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00F1B8-B0D9-4BE0-B3B2-828598BE8026}"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C9ABBB-7B55-479A-B0F8-EA100AAE6AAC}"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7AF051-8A9C-45C7-BAF1-C50C91A3DDBD}"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02C1F7-FFF7-46D0-8B0F-046BA3147FE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E7D0-35B0-44DE-9296-0F4470E664B9}"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537ECA-444A-4829-BF47-CD8A5FF53E4D}"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818F00-8E7A-4F99-ACCD-B3B2031D651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EF5BC0-862F-4902-88B7-04472439CEAB}"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7868FF-61C0-4778-80FD-BCE3D6980976}"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87B391-C7A9-4C1A-B2D4-57EC1E3018A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DE64FF0-4C02-4CEB-9EED-55052EFF0577}"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A12E4-6D86-4C70-8736-5CAE369FDDEA}"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D6808E-B9EA-456B-A1E8-46E7B14C1DE3}"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191B97-5EF2-4D00-BD05-877BDCBCBF7C}"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85955F5-5DF3-4A73-B78E-A704B93E985C}"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8A14B7-55F0-421B-989F-5ADC6FBAAB1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BA78FB-6683-4A83-9C5A-FB5277A8781F}"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EBC593-12F9-43EF-9EF8-3C22E83097FC}"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3B608D-3FE5-4EFA-AA97-431AB48DC324}"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8E96D8-E42D-48B0-8B73-2E78B45C8857}"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6A85A7-2F18-4F0B-829E-EE38156A8822}"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2095D2-7F1D-4C9B-A192-E2837AC2BB04}"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2954E2-59FB-4D02-AD14-184540DA2D3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86B5D4-6C78-4F77-88ED-6BBBC4F60579}"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6D3D89-D3D9-4927-B527-1DE5A0017DCB}"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2960D9-94D2-4728-B5C7-631E348A2294}"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389258-B048-468D-AFD2-F51B4FD89A8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4A5BE40-A208-410D-8FE3-0A0685DC16C1}"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2D6BBA-AB3E-4431-8937-49F6022FFA0C}"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C3FC51-3D5D-4F14-838B-063FBCCA224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8E9FE2-A8FF-41FA-9CB6-679723F22AF4}"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567771-5191-41BA-BC29-F7DA010F7EA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D0410-5411-4C2E-A8DE-86F3F05B3C53}"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76B9CD-F50E-4AB8-BA47-53B38EFD8D57}"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E39FF-9341-4E54-8834-5D14E76D84CC}"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E3B627-0BDD-416E-B29F-726345774C54}"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E416DB6-9E50-4FF1-8315-3C6CE43085C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EE1E99-D43A-4A9E-BFBE-BA48652118EA}"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AD2141C-5C40-4E17-86EE-DA0F41348AFA}"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3DEA75-BBA0-4585-BE86-2F7AAFACD520}"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710118-75FB-4BFD-9FA0-903D0C79093E}"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E3448C-880A-4AFB-B82F-2FA2A508176C}"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896FE6-49E1-48DA-A5F9-4187177CE71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838F5F-54C9-4C17-A3DD-A42D70DF235C}"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F0F953-E082-4C03-9570-DE2D58E4A483}"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34FA74-6F51-4A55-8952-31BA9531521C}"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5E5769B-0A3C-4B55-B0B0-61A455503D2E}"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E0D48B9-AEFD-42EA-9E78-1875B58FA2CC}"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BC80B-F36A-4B80-AC38-C1DABB19B4D8}"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6EE5B-2CBE-401F-BAE5-CFF186D4AF7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6D6DE-1AA5-4444-A3DE-F08F910D6144}"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FE9E7A-CFE9-44B2-9E7C-13A4DD938B07}"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E64CEB-5AA2-4C84-B755-CEDB9FE0CFE3}"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080D1-2461-4271-B6F0-4C8E97FC413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490AB8-2C08-4315-B3A9-2B60360577FD}"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39958-2036-4B18-B9CB-08DCB867414F}"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13B3A-D98B-4347-B456-FD7DEF35BDF2}"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D3DA14-6A89-43C9-AA4D-5B2093D5697B}"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B2D2EF-17B5-4940-AE19-D19EC917569F}"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542C04-C2E2-43E0-B111-14B0048FAF15}"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B7DC32-2BCD-4624-89D4-7C7D8F7D9EE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485400-F1CC-4759-9970-163B75512090}"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A2661B0-4F4F-4E16-BB54-F0C4D33C26B4}"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FFEF98-DF77-4B01-8197-0DEDDCF388F9}"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A81B30-4307-4AB9-924D-EDB79997407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A70733-E94D-4670-82D3-029B132DC260}"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37DCF7-6229-4DC0-9759-EE0F8CBB1B7C}"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453476-6FBB-4C97-A465-69D015E1E12C}"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1094A0-C715-4A9E-A23C-42192B126849}"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067E08-27C2-436C-8D7B-D8233295F03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460544-90DC-4388-9395-1064EB101D9E}"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123D444-4F5F-429A-8DD1-A88D35D97F80}"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62BCEB-D160-49F3-9917-AFC5CAF6EE02}"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09C8F1-447A-42AB-91F2-AE6C1664A0F3}"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AD757F-7402-412E-BAE1-E186CADFFAC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A6E296-7215-4692-9354-12268656E9C0}"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