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74622F-7787-4EE0-85BB-B36E1C7717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755F88-8ADE-41A2-A7E9-060279F0DF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0D9D74-46EC-4D49-94A6-4BF4D9D569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FF6E52-8656-4D94-ABF5-A450DB82E6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2AB78E-70B8-4FE0-8957-15D74723A3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59FA14-7BA0-403F-B5E2-FED084B536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F8A456-E25B-447E-BC53-2349FDF858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4332A3-D619-4949-9FE6-F5A0AB7A5A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59FFBA-46AE-4D46-B0D9-87458BF6D2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11EE94-611D-474A-83C9-6F45E659B6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70145B-74B7-43B9-B2DD-20B1AE12B3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E8B659-34D9-496C-BC67-B0DBFC7CE8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00F343-94EF-4CC5-93B9-1E2F870C09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718BA6-29BB-4A32-A222-A7F1305497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799C76-DB44-4F59-8752-57BA6A1E50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23F852-0297-4021-8921-69E65F3BC11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E486B7-EFE1-4583-8468-AC8632A5F4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DFC528-CD22-4C79-8C47-129B465045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BC9361-02B7-4E22-B672-8347342AAB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88ECE1-C9B6-4744-9F50-1A86E6A4D8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AE9B88-361E-4A64-BDFD-D7B99372BD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770A6B-F2C8-4040-834C-04267B9A4C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17C892-BC87-41F3-9678-30346B51DC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649E4B-0142-4244-BDAC-42EF263093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B53F2-5CEA-4193-8C15-2B2037131EF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B0A1C-3BA5-4EF6-A294-6C958D037A8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2F6D0CB-1697-4649-8658-C365D18F6C8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64A0C50-168A-4E3A-B026-4504BE2CB6B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C13615-E3A3-4F11-B5FA-C080DF8B0D0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BC5392-3876-4BD2-8901-2CA7495EF2A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8A5CD7-A54D-4579-9B76-E880F730EA8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EF1EE2-3DA3-476F-B669-B93E1A2DB79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843EB5-141E-482D-8318-8B71F956378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D9298B-788A-4F8C-AC5D-9E41ACAE9E12}"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D0C9B2-6D6A-4C18-BAE8-E576480F3320}"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077126-A8C0-4C1D-9424-319793192194}"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6FEE3D-B8B2-4EF4-871E-8B59D18BE750}"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437040-7F36-4F1C-B49F-A4DD9FB408BB}"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879525-E957-4EDA-B285-B6BC1C4A9E82}"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7BF733-7354-4AE1-AC0F-03B8D20610CD}"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B817A6-7C83-4721-A9E7-AF0AD722E3FB}"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020BEF-3D4E-4B21-8700-F6FB8947A980}"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E2ED0C-2A44-4813-A398-0FF36EE842C6}"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F142F1-CA99-4F1C-A7A4-1B8F546927A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2063F7-066E-40C0-956A-C1A96161E879}"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F1C410-0FE6-4E3C-8509-1AB5486829B1}"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B5DD51-ADDE-4674-A2FF-28E97A126F01}"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101643-F8FA-4C4F-B651-06AA8BC48A31}"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F2C9E2-A55D-4665-ADA3-11BADF6E1475}"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4BA72E-4CF7-4BBB-B634-A27FC29F89CD}"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57134C-9838-4660-9006-9AC0698E1D74}"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8EEE8D-9407-4FE8-B475-669FE4A6B3FC}"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A4CB21-0C16-4645-8242-56E2A00D729A}"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E6D86A7-47A5-47BA-8FCB-7ECD14E04D6F}"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D6A2F1-5919-4BA8-B888-4900F5173B0F}"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7311D2-03AC-4372-ADD0-BA2F081BAAD3}"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7343C9-B1BD-430B-8072-43725C178E95}"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0B1D61-8A66-4D83-A435-05B83714E2AC}"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B58452-7303-4486-8CBE-F99665CC9B41}"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DF8E6B-7E2D-482A-80EF-7C348DD8D1B6}"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F059DF-8E6D-4E5D-80C4-CC07E407CB4E}"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F7B28B-5966-420F-AF90-88AFB3F0FC8A}"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A56CC6-9556-4FC6-B4C8-488C4902C3B3}"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ED41ED-BD42-4355-9616-93750B3C297C}"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05E3DE-68AB-4A39-B15B-11AA6E42120C}"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A44E71-4AFE-4385-B46E-9E7BC3ADAE4C}"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396CB9-E971-45D0-A5A5-69EDB73246D8}"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EE574B-7B59-4D82-9751-DB0D3D819E02}"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77937B-6DE6-41EB-BCDE-C28583057F22}"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AB8B18-8B4E-4460-8340-7E9084B26A17}"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BA8CCB-AF63-40CA-82C6-C82B794A1297}"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64312C-08BA-4274-9E43-49A97299C9EB}"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CA178C-CF12-4ACF-B060-FD2B3AEC1F3E}"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C42387-72C6-4A0A-9FD9-984811D8AF1A}"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7124127-2208-4D59-8A55-DF98497D5A2B}"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09F898-D82B-4E6B-BFEB-1E1F22F13949}"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3660E8-6192-4A3A-9038-0DE153117506}"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AE3A563-761D-4743-811F-7099F6CC32CF}"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DDC006-A987-4C70-B83E-98FD5DA9FE71}"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22042C-B3CF-4C1B-8DF2-45CD76A75D8C}"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030D36-9E47-4FB6-A695-CD7650C3601B}"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22A99B-2CE8-427B-99F0-15BDDC018D6C}"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FD2509-3781-4CC1-A92D-0E44A1C9EE90}"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978B93-695F-4447-B0EB-A36B7A1AD754}"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BBB607-821B-40DD-B305-63DADB2E8B9E}"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58FE9C2-3CFF-4B5C-851A-5519301D0209}"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F409B2-A7E3-45F9-881C-34880D7F28CF}"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C71FFD-1AFB-4163-B820-2ED094831DA0}"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E74B7F-E134-477E-ABDC-F2EEA7C1791C}"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6282B2-9ACC-4621-A42F-7366DC1ECA5C}"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4DFB3D-18AB-44DE-B9EF-E7370865B713}"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B546A5F-835B-4439-866C-34E154DDD1F8}"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8305F2-B7E7-4A22-99DE-6A5F410ED437}"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E97399-8D26-4AC9-ACF9-2D72E59F2A83}"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D69F8C-8C2E-4132-93E2-AEAF6BE8B361}"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AB9327-56D7-432C-ACB9-A25CCAF29CF7}"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DE62225-3B67-402E-9719-1A791468D4DF}"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7EE75C-775E-4B40-82D4-DB9A8E9F9611}"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61184A-5B0F-4CED-AD6F-906A22E03A54}"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877697-3A9F-4A07-B506-C1160A037B4D}"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B4583E-DF73-42F5-A7CC-5D2B2503AB31}"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23576F-B70F-488D-8D65-BC3DD6AE2DB8}"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A815E3-4292-4CA5-B77A-8E35CB7CA89A}"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83BD4AC-6068-459C-B7C7-E2FA0D602B48}"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68739B-A321-42C7-ABF8-D8DEB75A438E}"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E22059-AB10-4BD5-8917-96DBA8A6AABF}"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9DB92E-6771-41EF-A8D7-D45AFE556C34}"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1B1756F-4F07-4422-812D-F33C45E16159}"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0338AD-F6DE-435E-B593-DEE5C277CDFF}"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48202F0-D6FD-42AD-AA76-9A1356D53298}"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C20C70-A51E-428E-AF6A-194AB8DFC07B}"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6506B0-9237-4194-B6A0-C3F1397D1B3B}"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383442-6554-43CC-A4CC-9A4152074095}"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908658-1C9E-4F0F-A883-176C33C4A525}"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0FE154-8524-41D2-A71B-9D8489BD3B1B}"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5C399E-36A4-45BA-A08D-6C0E26EAEA99}"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6F3ABF-4C50-45F1-A3B3-4BA514ACFE2E}"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3DC939-B3FC-4B43-B1FA-299225D0CB43}"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69F972-D265-46F5-B45C-613F4EA33CC8}"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0CF8A4-980C-4D6C-B8CD-060FE92C2907}"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65065B-7CFE-40CB-BE05-4632862A1FCE}"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99AE8D-C7F2-431A-942A-F54D79BBE841}"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394CF8-A2F0-40ED-87EF-81E07FCA15A2}"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3B2ACE-B2CB-477E-B2EF-C6563CA5FFD2}"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0896DB-F174-4CC2-9446-B1EB40593D8D}"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D5BE343-3FA0-4BB4-84CC-240AA3EAB3D6}"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C13987-49F7-4C28-95C2-C11EDCB9593A}"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9B6CB4-3D4A-49EC-84BE-8821FEBE2C0A}"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FB965C-D10F-4518-9EE5-90B992C0BCFF}"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90ED98-A0A6-4859-80F4-0FAF38CF0043}"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29BA50-264A-4C10-AF4B-00A9B0B3C6E4}"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8C257A-EE62-4E79-AA59-AAF12B4270C9}"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642DFB-0672-485D-AB8C-65228856DCA4}"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E008A6-AF5D-4EB2-AC66-E775E055F246}"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2D1530-25E2-43BC-ACFA-94A9D09490C8}"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7D8DC4-3A5F-40CA-B563-77406C4DBDB9}"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E2A241-6FA2-45F7-B009-37102F330DE8}"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F53420-008F-4216-AAAF-CF6255167C5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2D5264-2517-4337-8E9D-B34638450B89}"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0B2963-5705-4622-9240-14436A277227}"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D89802-3D2C-4C8F-AADD-479C3FD7C8BE}"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58297A-2B8F-4F74-9A4F-576A5AD3F718}"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DA0D1E-EEE9-4FD3-8D3D-590B71EA3B70}"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29E889-DAA5-4331-801E-B7E48207DDD6}"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6CF42B-D586-4642-9AF8-F2C8BF869444}"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8D9747-575E-4BC0-B103-1D6677B02F4A}"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B08C33-39F7-4AA1-98C7-D2EAA9A35191}"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064EEA-F1C9-49D1-A8CF-88CAE178D3B3}"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D1C40F-3FA9-4C6E-AC45-5ECE2309BF7C}"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FC1F13-420C-43F9-A659-FDA74A4DA897}"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3B53C3-C1FE-489C-87F7-01FEAD77DDBA}"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1CE73E-69FB-420D-8E70-D11F6722E112}"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3552B5-D2FF-49E2-A901-D3472981590D}"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3938BB7-4EC2-48B4-8BED-4C5CE4007792}"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4AB8E6-745A-42C4-9F3E-A97494EAE55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5561A2-466F-4FC1-A988-460B5733C75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339548-947C-459D-863F-30B3BC4BB95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4DB9F4-CEB2-4306-818B-9012A42F09C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FCA91F-725B-479C-B129-10D521DF31E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1114DD-D668-4F2C-AB3C-92410D30DD1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138609B-E31E-4E40-9E01-40B85BA87FF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68F9E2-4C96-41FB-B0D0-D9A63433276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1DBFB0-500D-4F71-A180-5893FE11013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EB8D6C-A97B-4BB1-9EB2-BE04407C34C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9BCA63-D1A2-4632-B5CA-D445E0B14D1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66752F-741C-46DA-AC88-103950D7487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217300-0AE5-4A5B-A6D1-92A7E455F7F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DC6EC4-958B-4062-83CB-9ABF1A6D6CA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4CC902-082F-419A-A616-DF33CDB8344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DF1486-A872-4D33-8021-7E86BFC4B3C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04FA0B-8D43-48D1-B419-08120D2449A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71EF9B-8DB3-4034-975F-6F66454F467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B14810-3227-4145-8565-365A5EFE641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150D8F-7032-4693-9BF1-A3041967590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290E1F-DBAD-428D-AE87-0C98BD849F5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A4F5F9-A397-4EDD-840F-EEEA5D4547B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3524FF-3F2C-4AFA-BC8E-D91994C7A33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3B42D1-60EC-4704-B5D3-2AFA9887092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487E29-8825-4726-B333-BA2F1E83000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98804C-02A3-4869-9B83-BC3D05FA9A1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D4A09A-8B10-4EFC-80CA-13E6D8088A7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D14432-381C-4FCA-9620-519C2ABC009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CCDC50-D3F2-4B15-B152-4C0C1EED3D9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1B047D-DE74-40CB-BE3B-EEC10E8A842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3A5222-73DC-4B9A-A967-6CC9E4FC064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1F2F4A-3B24-4710-A4D2-4AD4E2BEBB9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F6B292-CBE0-43D1-8FB4-7C88662FC25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67E5E4-7681-453C-A11F-BBBEDB81AD5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D8E10D-C00D-4BD7-867E-93901DC47F3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E7E1DB-E23D-478D-BFA8-233D95ABEC6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70A557-644C-40EC-9EBA-4AE08EB563E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057129-72B7-4569-92F4-5DDFE0C2187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33E707-AC62-45EC-BEA2-E396B655253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CC6A13-B7ED-4379-94E7-DE50827CE6A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AD3E3B-D05D-4321-A82C-AFCD7F18A4C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D1C681-AF66-4DA6-B195-6274A6F3262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28CAB8-B313-400B-86E7-409B9965287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E1AAD1-9F7A-4858-8D26-DEF3EC2897A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28EE76-A698-4774-836E-6B670174334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C49C72-C4C7-44C5-A65C-4A527A18CD5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AC3181-0180-4D71-9FB9-52B23E43D3A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B2AD95B-DBDE-4172-B0C2-FFC6B676D45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1CEC71-EB87-4BBE-ADD3-FE9638AC843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8F4F80-7DB9-4F87-9B9E-D21AD02D35C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72A0A7-1F1E-4FA8-BA0A-2DB6C940AD4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6D6D61-4B1E-4409-A60C-E609A3A433F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3B066D-A567-46ED-850E-6367995BB05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DFCFD6-34B8-496C-B4CD-95CAC3FBA4F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F857C4-2995-4C61-8CAB-719BC5438DF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6D327D-4AB7-4B1F-884F-473916B1AB2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4ECE198-188F-46E3-AAA2-E1241AAA092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FEDD97-B095-4825-AD6E-D34882384BD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50674A-CE3A-4684-AC59-D1240F31003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757905-CECB-4D89-B146-B98B2F226D6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298C89-5C0F-4601-93F6-B2828615468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CFF388-87E9-437E-B23E-80410912BF4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B0B37B-55E6-4795-BBC2-F570D94D771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C4BA2E-0A0B-480F-B2F1-48482BF679F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8C7534-1B5E-4D5A-8D4D-B0B6B97F678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B26818-CE21-4901-AD35-3276C9844FA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33E883-96CD-420D-A083-DB2418D061E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88D0D9-79DC-465C-949E-D099A614B28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05C99C-A8D7-4022-8E14-4DD88263448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8D1FA7-039D-438C-ADFA-1308A97B072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41AC2F-556E-4C66-BCE4-F73C38D7972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EB94284-F1EB-4C64-854C-F658F191252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A05B68-3320-43AF-B117-0B8DEE6AEB6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D214BD-F604-4B32-90A2-763217E2005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9140A1-8C7E-4D2D-9D7C-D8CC9398059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78AB83-3C7E-4DF3-8415-E2B53BD731E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4B78DD-A6E2-478C-907C-5682566FD9C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523057-54C8-4459-B86A-7003BFE7E47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4D1AB4-C298-4450-B905-4ED7503A19E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EAFCA0-0CFE-49F7-868D-F90CA8B9F02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55AEDC-C783-4816-93EE-E45A8F0378D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182057-0E92-47ED-A097-D34FF97671A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E9BE58-7813-4C95-91A2-723398127F1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EA563A-25CB-4D9C-A8C7-DBFBA8F36EA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0CFD70-7C7D-4D55-B549-51A82EAD7C1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