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15791"/>
        <c:axId val="56917945"/>
      </c:barChart>
      <c:catAx>
        <c:axId val="36315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17945"/>
        <c:crosses val="autoZero"/>
        <c:auto val="1"/>
        <c:lblAlgn val="ctr"/>
        <c:lblOffset val="100"/>
        <c:noMultiLvlLbl val="0"/>
      </c:catAx>
      <c:valAx>
        <c:axId val="569179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15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641-88AE-4CC5-9262-D9FFAAF5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7EBE-FA18-4C96-BEA0-02BBCF94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E071-5380-4B22-BBA5-5607092A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CB6C-EB6C-4801-B2C1-3B3FE62E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D3C-F47E-4F80-A297-DCC1314F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3BC-89E1-4211-9D2D-3B988E23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F01-8870-4165-AEBE-326309DB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13E4-EB15-41F7-9B16-AF4DC6C9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671B-DEDB-4A9B-9603-EE7AF333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016-C543-4FD1-A614-BAB1501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477A-075B-4FED-8963-3E5BF0C0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AC2B-447E-495A-9602-CFBEE842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67C162-4189-4313-B65A-B7254A450B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