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11520"/>
        <c:axId val="28472049"/>
      </c:barChart>
      <c:catAx>
        <c:axId val="84311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72049"/>
        <c:crosses val="autoZero"/>
        <c:auto val="1"/>
        <c:lblAlgn val="ctr"/>
        <c:lblOffset val="100"/>
        <c:noMultiLvlLbl val="0"/>
      </c:catAx>
      <c:valAx>
        <c:axId val="28472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11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BFF-1226-4714-B2CF-667B2FD0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793-D1C3-492C-9870-6A04620D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F94-81B1-4167-911E-B7071AD6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3DE-70B2-4E0E-A1C7-EE16F741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28F-5063-49D1-B420-4D02B74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43C-D7A0-48B1-8B4E-6310ED9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6B1-DB1E-4F12-B0BE-CE225C32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6AC-D836-424A-A54F-E1951229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E08-D2A3-447B-9725-297F142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03E-2E35-4DC1-948F-4EECFF7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30C-9F37-4D75-9F42-E6E20E7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1B3-7780-470E-87E2-571A5EBF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C3C30-6DD1-4E2C-A077-1FC62F05D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