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32321"/>
        <c:axId val="76913954"/>
      </c:barChart>
      <c:catAx>
        <c:axId val="92332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13954"/>
        <c:crosses val="autoZero"/>
        <c:auto val="1"/>
        <c:lblAlgn val="ctr"/>
        <c:lblOffset val="100"/>
        <c:noMultiLvlLbl val="0"/>
      </c:catAx>
      <c:valAx>
        <c:axId val="76913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32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036-866F-4167-B9C0-FE62AA43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69F-6D6E-4F83-A7AE-E6DDC83F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887-D18B-4737-ABAB-9C7C512D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1C4-33D9-4071-B7D2-9A347F2E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F6E-A26E-491A-B7BA-2064B798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3D6-A0B9-47D7-994D-1A56D4AD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F57-E0D6-4ADD-88D0-0AA7CE9B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CF2-7F18-4C31-B38F-C1123A92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C57-1AD3-41EB-AD05-FF7890A2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DB4-63D5-4708-89F9-A08ECE6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503-D294-4356-AADE-DC44FBB3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D44-3228-4427-9D14-9762003F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A2857-5A34-476D-9E9A-DFE55F1D21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