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040440"/>
        <c:axId val="64337667"/>
      </c:barChart>
      <c:catAx>
        <c:axId val="77040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37667"/>
        <c:crosses val="autoZero"/>
        <c:auto val="1"/>
        <c:lblAlgn val="ctr"/>
        <c:lblOffset val="100"/>
        <c:noMultiLvlLbl val="0"/>
      </c:catAx>
      <c:valAx>
        <c:axId val="64337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40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227-559E-481A-8BD2-85064E86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4BE-5A30-4424-9060-07499884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702-D935-47E9-B889-02DB93BD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D532-2965-4477-96B5-86867A93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6C81-1D59-4083-9D4E-F4D217FC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60A-B0AF-410B-816A-EAF79FA7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91C-873C-47E9-93C3-15395E9D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CC42-AE0F-4A26-93D1-59301CCB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4ECF-52E9-4667-88DB-1575D691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196-1EC1-4828-B36D-FB3E0A3E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5E9-0F0E-40EC-8D5E-79D23C43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F01-9681-460B-996F-8EE49DB1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4A81B-816F-417E-B632-65ECB501FA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