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37258"/>
        <c:axId val="11674236"/>
      </c:barChart>
      <c:catAx>
        <c:axId val="98437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74236"/>
        <c:crosses val="autoZero"/>
        <c:auto val="1"/>
        <c:lblAlgn val="ctr"/>
        <c:lblOffset val="100"/>
        <c:noMultiLvlLbl val="0"/>
      </c:catAx>
      <c:valAx>
        <c:axId val="116742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37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56CD-023D-49F4-BCBA-3F84028C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FFA1-39C0-41E0-8D9C-CDAEACD2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D80-A676-47C1-B27F-56346E1C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5B47-3F10-43ED-83A9-55B50333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06D7-B6C7-4D98-A602-756291B3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07FC-46BD-495D-916A-BA3CBDDA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7308-3E49-4280-ADE4-4B80A8B0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412B-D14A-41FD-A8C0-98B81823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D448-9CE3-4B9D-BC45-48B42BCE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FFC4-8F22-44BB-9BD4-896EF837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23E9-D3B6-4A7C-89F8-1B22DF41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FA96-389C-4AAC-BAEA-41E3BD8C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0C40C-4C7B-48A2-A71C-C6640D7E51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