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20592"/>
        <c:axId val="23975231"/>
      </c:barChart>
      <c:catAx>
        <c:axId val="42520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75231"/>
        <c:crosses val="autoZero"/>
        <c:auto val="1"/>
        <c:lblAlgn val="ctr"/>
        <c:lblOffset val="100"/>
        <c:noMultiLvlLbl val="0"/>
      </c:catAx>
      <c:valAx>
        <c:axId val="23975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20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89C-A6A7-4055-B817-959A2E78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AFB-684A-4B40-B027-6A31C23A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B32-A680-43F5-AEB0-C1FC382E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802B-26C3-49EA-B1F4-DAC7CCE5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8F9-8CCC-4D50-A1C7-9A3CF5A6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2BA-87DF-454B-A483-E2CFCE50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2660-5A49-42F9-8389-E26CABEB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E0D-57C9-494B-860A-3EB2256C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B44-B8D3-4FDC-B3B3-1B40C959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5AB-3710-4E93-9EC9-6ABCD151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8F76-9BC3-4830-B9F2-249B6AB8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3DA-4A71-4ED1-B36C-43ABE788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EC5CD-BF6D-4AF4-8CC1-64AB2033FC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