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22193"/>
        <c:axId val="37263619"/>
      </c:barChart>
      <c:catAx>
        <c:axId val="80522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63619"/>
        <c:crosses val="autoZero"/>
        <c:auto val="1"/>
        <c:lblAlgn val="ctr"/>
        <c:lblOffset val="100"/>
        <c:noMultiLvlLbl val="0"/>
      </c:catAx>
      <c:valAx>
        <c:axId val="37263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22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E99-2D09-4EE5-9E26-A7CF7996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53F-386C-497A-AAA3-780D94F0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49A-70A6-4B07-91C1-51443EF1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6AD-4B97-4179-94DE-565E9202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5C5-1992-499F-8C09-A8E0E22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224-E754-42A6-ABDC-0CF84B20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06D-99DA-4664-9647-4B03973B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4EF-20A5-430F-BE96-C0DDB03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2AE-9F3D-4C78-8BE0-CC5A1BB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9F6-16A1-4F42-ABE3-B6C30FD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433-1052-43F4-BA45-6D52199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718-8225-4F60-9C96-0E157670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E5B87-0C5C-4FC8-8215-7866986ED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