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63806"/>
        <c:axId val="82395833"/>
      </c:barChart>
      <c:catAx>
        <c:axId val="12463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95833"/>
        <c:crosses val="autoZero"/>
        <c:auto val="1"/>
        <c:lblAlgn val="ctr"/>
        <c:lblOffset val="100"/>
        <c:noMultiLvlLbl val="0"/>
      </c:catAx>
      <c:valAx>
        <c:axId val="82395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63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A1E-7F8A-4CDD-980B-2ACA8308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5C6-33DB-487F-A717-13B09FC7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2B8-D6D4-4F56-9874-DF6EB494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530-79E1-40C1-BA6E-7EC7D333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12A-0544-4DB2-AD58-6D88383C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90C-841F-49F0-982B-0697069F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1E6-CBCC-4689-B882-50B153A6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B40-886D-4568-83D4-47487C49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F5C-206E-4B7F-B0C9-9791644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219-0105-4C9E-83B2-24EBE895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0496-61DF-4112-A381-DB707CAD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573-E922-4376-BF15-EB22464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DD1D1-41EF-4936-BD63-2A0BB23DD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