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60286"/>
        <c:axId val="48366858"/>
      </c:barChart>
      <c:catAx>
        <c:axId val="30360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6858"/>
        <c:crosses val="autoZero"/>
        <c:auto val="1"/>
        <c:lblAlgn val="ctr"/>
        <c:lblOffset val="100"/>
        <c:noMultiLvlLbl val="0"/>
      </c:catAx>
      <c:valAx>
        <c:axId val="48366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60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810-A218-4495-9701-C200211C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563-FACD-4F13-8969-849E795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7EF-587E-4ED4-AADA-804A9A3F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D61-EF19-4B4E-BB05-73BCD968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16C-EED6-4715-AD01-9E961C48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802-1AD3-4354-AACD-FFCB73D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0CF-40BA-4500-B4CE-D06B1725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3DB-47E7-43B3-B834-28667152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42B-EA99-4325-B23B-9963B04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C3A-46C9-4DF5-A3D6-2CC6C0B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C6B-A4FC-4086-B718-BC31A37A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544-C4CD-4B24-9E5F-9B87C90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8CD1-654B-486A-B1EE-6E44AFD9F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