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37782"/>
        <c:axId val="17863840"/>
      </c:barChart>
      <c:catAx>
        <c:axId val="31537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63840"/>
        <c:crosses val="autoZero"/>
        <c:auto val="1"/>
        <c:lblAlgn val="ctr"/>
        <c:lblOffset val="100"/>
        <c:noMultiLvlLbl val="0"/>
      </c:catAx>
      <c:valAx>
        <c:axId val="17863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37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D08-B923-448E-BBC4-928F540A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FFD-FCA1-419C-9D31-BACBC129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84E-421B-4597-A805-C42D3B2F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E30-1A94-494F-87A5-29E65D04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731-580F-44B6-86E8-C2EAEE4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275-E49D-4574-BA29-F09AD9D6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DA1-25C3-4FD9-840E-DD94D6B9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64F-19C4-4907-A0B9-EB7B97C1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0CC-CF93-4EE6-A5AD-A05D61C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E0D-7FC6-428A-80A0-C01349D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8F5-27A5-4F8C-BC12-243C2B22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CC8-5179-4BB6-817A-71AA1E40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3539F-AFA9-4185-B4E1-4952DC060E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