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64390"/>
        <c:axId val="19688281"/>
      </c:barChart>
      <c:catAx>
        <c:axId val="746643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88281"/>
        <c:crosses val="autoZero"/>
        <c:auto val="1"/>
        <c:lblAlgn val="ctr"/>
        <c:lblOffset val="100"/>
        <c:noMultiLvlLbl val="0"/>
      </c:catAx>
      <c:valAx>
        <c:axId val="19688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643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4E0-1204-4373-B61C-98460E2A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E854-F966-4392-A273-49F55A72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52BB-96F0-4908-B015-B787BF57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395-6B40-442A-B9C7-5E71E4AE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1BA-55A8-41CA-B294-868551F6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A3E7-537B-469A-AA8A-4DC5493B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DF4-C3F6-4E87-BE47-A1887618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295A-13B5-482D-813C-25F1A86B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703F-F16A-4B7F-B592-B104942B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738-C3ED-485D-923D-77CECF51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E7DC-B54D-4D01-9305-DD5E6FDE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767-EABF-4311-96FE-99839024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1D94C-2897-48BB-B2F0-A2457D4742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