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101608"/>
        <c:axId val="5613196"/>
      </c:barChart>
      <c:catAx>
        <c:axId val="110160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613196"/>
        <c:crosses val="autoZero"/>
        <c:auto val="1"/>
        <c:lblAlgn val="ctr"/>
        <c:lblOffset val="100"/>
        <c:noMultiLvlLbl val="0"/>
      </c:catAx>
      <c:valAx>
        <c:axId val="561319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10160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E0FC0-68EE-4A3E-A323-6694DE1E2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192E1-FCFC-4BB9-AEDA-05853F574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6D8F1-6AC7-46DE-A870-27F5890B9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295CA-90BF-415B-B56C-40DB896F8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DF8A3-BEFA-48BA-A12B-6DDEFF8B3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9879F-071F-4A56-98A3-0977446B4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B1B45-C8C5-443A-83A8-115DA985A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C4809-6A84-417A-B642-660BC0294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7C22A-A60B-40A8-8827-B2EA5269D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3A16B-226B-4400-BC4A-939070CD1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BC28A-DB99-4D59-97F5-B24B61032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92662-3EF7-4F0B-B10C-FE64C01DA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8DB34A-FB1D-4128-B509-AE9A7858988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