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8189"/>
        <c:axId val="24602352"/>
      </c:barChart>
      <c:catAx>
        <c:axId val="62748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2352"/>
        <c:crosses val="autoZero"/>
        <c:auto val="1"/>
        <c:lblAlgn val="ctr"/>
        <c:lblOffset val="100"/>
        <c:noMultiLvlLbl val="0"/>
      </c:catAx>
      <c:valAx>
        <c:axId val="24602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8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614-BBE1-473B-8FD2-53A26D7B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E49-82BE-42BA-9BFC-60E130C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BDF-EAD3-4DA9-AB65-D3891E65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E20-54B6-4438-A44F-B375CE85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2CC-CA9C-4BCD-AADB-C9E7FADE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79B-C884-4853-998F-97999914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E5F-14BA-4C65-BCA9-916FAE24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759-D98F-41EF-810E-272DBDB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106-90AA-4FF9-BA29-245DB26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B83-A35E-470C-B5F2-C722BCA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C2A-B523-465F-825B-5AFABCA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FBA-9AD2-432F-B014-1D868E7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009CF-3B64-43C0-8159-CD3B16043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