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63026"/>
        <c:axId val="32041342"/>
      </c:barChart>
      <c:catAx>
        <c:axId val="675630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41342"/>
        <c:crosses val="autoZero"/>
        <c:auto val="1"/>
        <c:lblAlgn val="ctr"/>
        <c:lblOffset val="100"/>
        <c:noMultiLvlLbl val="0"/>
      </c:catAx>
      <c:valAx>
        <c:axId val="32041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630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F17B-E429-4CBC-83A3-43B1B87D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418F-E866-49C9-B06E-B19F9433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D7C-F7D7-4AC8-97E6-F759477E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31D8-FB2C-4954-B4F2-827BDDC7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749F-D9AF-4881-B120-14739038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CF15-FF55-4C75-875E-9B4B14C3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382-5D03-4F96-9470-BC6ECDD6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A4DD-DA5C-4B9C-A5DE-CA5C3351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6D5D-C85F-476C-93DC-421FEF27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9ED3-3902-4EEE-B9AD-00A96F47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D5A9-F88A-4C91-9C52-60A5D3C7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DDCD-5797-4259-8B4D-F2525B3B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5DE10-C0E5-427B-8175-47B4ED3C01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