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90037"/>
        <c:axId val="95932447"/>
      </c:barChart>
      <c:catAx>
        <c:axId val="89590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32447"/>
        <c:crosses val="autoZero"/>
        <c:auto val="1"/>
        <c:lblAlgn val="ctr"/>
        <c:lblOffset val="100"/>
        <c:noMultiLvlLbl val="0"/>
      </c:catAx>
      <c:valAx>
        <c:axId val="95932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90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A9B-FE87-40C5-B69D-30B4B0A7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39C-FA0B-4E1E-B5FE-07177372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36C-897C-4670-97E4-8B59ED68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E6DE-EE59-4644-BF49-A7C76796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A5E-2D3D-4CE0-8A45-6C965949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72C-6F2F-4703-BD35-B423B0E1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930-C3AC-480B-9CB2-74AC0EF9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71F-6AF5-4EC2-A45D-2F670E2F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9FC-FFAE-48E8-BD3B-EF45CDB1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CDB-C017-4D99-A82F-D699F28C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758-1931-4796-9448-6CCA8CE9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05F-1C51-420F-9C70-CD705944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90D7F-A4F4-488F-AF4D-E7F748E2BE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