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65788"/>
        <c:axId val="23762652"/>
      </c:barChart>
      <c:catAx>
        <c:axId val="30965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62652"/>
        <c:crosses val="autoZero"/>
        <c:auto val="1"/>
        <c:lblAlgn val="ctr"/>
        <c:lblOffset val="100"/>
        <c:noMultiLvlLbl val="0"/>
      </c:catAx>
      <c:valAx>
        <c:axId val="23762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65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AB6-B4E2-47E2-B0B3-FD0EB541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423-65DC-4526-862E-CCC11E3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01C-A784-43D6-A181-841A5FB5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973-1576-4BF2-BF2C-94729AAA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185-95E3-4E4C-B036-0F0F6A34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DB5-2259-4754-81BC-61B89B1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7D7-70B5-438E-93E6-18F26EF7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45E-BF55-4FA3-8B85-F6B3C7FF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08F-060E-4968-B3BA-8E404DFD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F1C-D0E7-478D-8D54-C93323A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AA0-45E3-4E5A-AEC3-DEC79CB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468-BAA5-477C-9F94-0E8DBF0A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BED8B-DCF2-4E33-9FCD-01BC725C45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