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03252"/>
        <c:axId val="75585241"/>
      </c:barChart>
      <c:catAx>
        <c:axId val="2940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5241"/>
        <c:crosses val="autoZero"/>
        <c:auto val="1"/>
        <c:lblAlgn val="ctr"/>
        <c:lblOffset val="100"/>
        <c:noMultiLvlLbl val="0"/>
      </c:catAx>
      <c:valAx>
        <c:axId val="75585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018-7D32-47B9-904A-0A7E5115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502-B052-4BC5-88EC-FBF030F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3A7-FCD1-446B-9C0A-CB7051C6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0BF-E3AB-4001-9265-6A7C019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033-1648-4966-A363-CC28B18F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004-E6E0-4AE9-9E3E-E5D14C51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C3D-0F18-45AA-8BED-E029C808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BE-7214-403D-8617-C3E80040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84A-03B3-4714-A088-B6DC213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A25-6895-4464-AD39-66E6E46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0CA-7651-4C51-A761-72732092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EEF-DF5B-4EC6-A46C-D7E28A6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220A-0831-4B03-A78C-C05F49853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