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75310"/>
        <c:axId val="23781179"/>
      </c:barChart>
      <c:catAx>
        <c:axId val="22275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81179"/>
        <c:crosses val="autoZero"/>
        <c:auto val="1"/>
        <c:lblAlgn val="ctr"/>
        <c:lblOffset val="100"/>
        <c:noMultiLvlLbl val="0"/>
      </c:catAx>
      <c:valAx>
        <c:axId val="23781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75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C22-F342-4EDC-8CE6-960454D0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F5D-5C9D-4BAF-B88D-ED09B086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4DE-F8DA-4805-8698-15A230FF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282-FEAB-4BA2-8084-AB38F46A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3A0-5646-44AF-9954-C9FAC63A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BD8-8684-4F6D-A052-4239AD1E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1DE-DDEA-4120-8FE7-1757E517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E74-6C5D-43F6-B8C8-86EA7B34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F4A-D32F-45E9-886D-105E659B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E28-CEB5-4C28-BA73-427C4116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719-BB23-498F-A7EA-C85AB443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14C-C6C0-4E36-A4DD-EFEDA819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E907A-A314-4C6B-9C85-52C56ABEA2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