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41548"/>
        <c:axId val="42902416"/>
      </c:barChart>
      <c:catAx>
        <c:axId val="26415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902416"/>
        <c:crosses val="autoZero"/>
        <c:auto val="1"/>
        <c:lblAlgn val="ctr"/>
        <c:lblOffset val="100"/>
        <c:noMultiLvlLbl val="0"/>
      </c:catAx>
      <c:valAx>
        <c:axId val="429024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415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6525-D48C-48FD-83B4-007D4EFF7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5DF4-C1D7-4E3D-9474-C6694EAC5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30CF-3B67-4560-BD1C-5DE78E79F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47BA-74AF-4CAB-9F17-7F7B3AAF5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6B7F-C05C-4E01-9DB7-7B0DEB1D9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2255-86E4-4203-B6E1-00FBB685F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A2C8-5041-4753-B695-8300BC6E7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F3C5-96F4-46B0-A95A-BB1C0FD08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7E07-864D-43C0-B561-A43A81781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3569-314B-4BA4-81D6-7C592F86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3B95-23AD-40B1-96A1-802A30AFF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6ABB-31EB-4E8B-A516-531306839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30C55E-74F5-4F46-961C-5DC29D13490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