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881680"/>
        <c:axId val="58825732"/>
      </c:barChart>
      <c:catAx>
        <c:axId val="528816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25732"/>
        <c:crosses val="autoZero"/>
        <c:auto val="1"/>
        <c:lblAlgn val="ctr"/>
        <c:lblOffset val="100"/>
        <c:noMultiLvlLbl val="0"/>
      </c:catAx>
      <c:valAx>
        <c:axId val="588257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8816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CC31-426E-4E3E-87FF-F77205916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54A5-1505-4BE6-B6D9-19100C8B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1E8D-4344-4C01-A556-64842528B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6023-7E6D-4485-87F9-C33DFEF6D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E931-6C61-4AED-818B-747F06A1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A760-F0B3-44D4-ACA6-6B7905ED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2B49-18F0-492D-9FD5-515A7E4F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AB2C-129D-499A-8882-B00A98E9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DE6E-D65C-4B05-9336-7172160A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E8D9-D147-404A-8D6F-D6F3541A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E792-CF7E-4F0C-9D1C-F75114DF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C0DB-753E-4E04-AB60-432C8A54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2AD8D4-A788-44C3-A5CD-BCA95EAB2C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