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071894"/>
        <c:axId val="69202224"/>
      </c:barChart>
      <c:catAx>
        <c:axId val="990718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02224"/>
        <c:crosses val="autoZero"/>
        <c:auto val="1"/>
        <c:lblAlgn val="ctr"/>
        <c:lblOffset val="100"/>
        <c:noMultiLvlLbl val="0"/>
      </c:catAx>
      <c:valAx>
        <c:axId val="692022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718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A4C0-2BF0-433C-8830-D71899BA7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3F3F-7107-47B8-8985-3BE12F1B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D631-089C-4801-BD50-52552AE7B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A0D3-784B-402C-ADAC-7D3627FF0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2E44-9E0A-4287-9855-E7C43839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217E-2260-4845-97E6-B0A58046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732E-E44F-4742-A91D-9CCDD83C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A711-0233-44E2-8265-3D6D3C02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236C-B551-4A6D-BE84-669A031D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2E17-8C90-4147-9D39-0526D8CF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9735-3636-46DE-9EB2-AD9CD5F0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8972-1299-4544-BE5B-E3B1D0F6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B352E-347D-4569-8719-6F8FFE05F4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