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159"/>
        <c:axId val="16535408"/>
      </c:barChart>
      <c:catAx>
        <c:axId val="704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35408"/>
        <c:crosses val="autoZero"/>
        <c:auto val="1"/>
        <c:lblAlgn val="ctr"/>
        <c:lblOffset val="100"/>
        <c:noMultiLvlLbl val="0"/>
      </c:catAx>
      <c:valAx>
        <c:axId val="16535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22C-BF35-4877-ABBB-7D9F5FB2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A25-3737-462F-8312-473584AE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0A0-8ED7-467D-B981-1AE5F5EC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306-436F-4F87-A6DA-A3BEEDFD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CEF-6E33-43F2-BC5E-047CDFDF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DB8-688B-463B-B52C-5E8FB179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6DA-E59A-4831-8426-E3DD8061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210-14CA-45E0-8358-DAC7CF3A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B12-814C-4FE7-AB67-3FAC22C9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354-5CCC-4B01-A60F-3ABC294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3D8-9A57-4784-B6C6-5BCB594B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C1E-3A29-4EA0-B84A-A037FC10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B9198-3168-4C31-859E-EAF7A59FCC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