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13706"/>
        <c:axId val="45471651"/>
      </c:barChart>
      <c:catAx>
        <c:axId val="68413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71651"/>
        <c:crosses val="autoZero"/>
        <c:auto val="1"/>
        <c:lblAlgn val="ctr"/>
        <c:lblOffset val="100"/>
        <c:noMultiLvlLbl val="0"/>
      </c:catAx>
      <c:valAx>
        <c:axId val="45471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3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235-0A3A-4205-86FE-5D8B8203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9CE-D7D5-4879-AA0A-3BB544B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1AE-16AC-484C-9039-011D47F5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459-3001-47A7-8566-21EB9317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6C5-2A3B-4AB0-A56A-35F3AFB2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5F2-8D1B-4706-B466-74EE681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718-75E0-4D83-BF07-52492FA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0F1-0A5D-4990-9E4F-49C6767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E9A-4418-4087-9993-40F61A3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DE9-0A80-43C7-B9EA-22FCF05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3C8-330E-4521-A512-2066EB7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6A1-B2BB-4147-A568-E2697F9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3A7A8-7031-4BA9-A405-32F617CFD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