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6561"/>
        <c:axId val="51390007"/>
      </c:barChart>
      <c:catAx>
        <c:axId val="8066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90007"/>
        <c:crosses val="autoZero"/>
        <c:auto val="1"/>
        <c:lblAlgn val="ctr"/>
        <c:lblOffset val="100"/>
        <c:noMultiLvlLbl val="0"/>
      </c:catAx>
      <c:valAx>
        <c:axId val="513900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6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483-1D73-44DA-9B29-6AE1F3B6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395-913F-416D-A778-732E2384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153-1FE2-47AF-B303-86A50727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46D-9C52-4766-A4F1-5E082188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BFB-689B-4B2E-BDFB-E3CED4D3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C9B-591A-4571-AB22-E6CEA85D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B26-8548-47D9-9C58-4A315E89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C73-B8F4-4C7F-A4AF-53288C03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C7F-F8AC-4CE5-A81A-C25DD1BA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1EA-D3AB-4170-9C5C-A0166ED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951-18A0-49A1-B6DD-2D1437D4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C47-02D8-40DD-9227-54E824A9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1A4EF-C0F5-4240-B2B0-D6EA15D032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