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60783"/>
        <c:axId val="74542916"/>
      </c:barChart>
      <c:catAx>
        <c:axId val="74760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42916"/>
        <c:crosses val="autoZero"/>
        <c:auto val="1"/>
        <c:lblAlgn val="ctr"/>
        <c:lblOffset val="100"/>
        <c:noMultiLvlLbl val="0"/>
      </c:catAx>
      <c:valAx>
        <c:axId val="74542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60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D3D-E74A-4505-A130-6357DD3C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1CB-B2C9-4291-B985-B06E3B19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6F4-73F4-427B-AF1A-A15A18B9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59C-6DFC-449C-8E42-8B53959D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6CAE-DE76-430B-9D76-60079A36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F3B-1895-4C42-998A-02843CDB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E6A-597C-4105-BD8C-F8B43131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3B9-CEE2-4697-A38B-6D92FFFB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FFD-7401-4F75-BCE5-FB592172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55B-3A41-4206-A78B-FE05D5A5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282-AD57-4005-9057-B691D17D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DD5-4F50-4547-B2E3-4C96A044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DFA30-E1A2-42A6-BEB5-A490C67D49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