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25804"/>
        <c:axId val="12610410"/>
      </c:barChart>
      <c:catAx>
        <c:axId val="2542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0410"/>
        <c:crosses val="autoZero"/>
        <c:auto val="1"/>
        <c:lblAlgn val="ctr"/>
        <c:lblOffset val="100"/>
        <c:noMultiLvlLbl val="0"/>
      </c:catAx>
      <c:valAx>
        <c:axId val="12610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2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5AB-FDCE-4D3B-A609-F90CCDE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612-2B34-4303-A02E-69CFEF3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0CD-BE5F-4C4D-81CE-52E68C6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928-31F1-4FED-A748-E195795A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79E-D2A7-40EA-896E-EE017A72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AB9-DE55-461F-8803-1B56C198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3CA-AAA4-4D0C-BF64-44403F2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2EF-893F-48FF-A316-E64A9FA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C03-B73A-4999-AC2D-661E9FC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E8E-BC57-44C9-94FB-59312E4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106-EBB7-4610-B6AA-E95B360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A24-FA87-413D-99A9-2F56DE8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40789-2513-48AD-AB9D-E11DEECDB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