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37455"/>
        <c:axId val="24916754"/>
      </c:barChart>
      <c:catAx>
        <c:axId val="90637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16754"/>
        <c:crosses val="autoZero"/>
        <c:auto val="1"/>
        <c:lblAlgn val="ctr"/>
        <c:lblOffset val="100"/>
        <c:noMultiLvlLbl val="0"/>
      </c:catAx>
      <c:valAx>
        <c:axId val="24916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37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3B1-0A28-4BCA-8DBF-B9286A9B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3A9-3FC7-4766-BEAA-8625E782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2CF-5131-4AF0-A37A-49560892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7AB-354F-408C-93AC-2C1EC5C7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9EE-3969-4CB3-A3EC-E062DE48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8AF-9E0B-4E80-ADCF-76AC7CC7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CA2-6434-4312-A42F-860C2D9A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C31-EE7E-419A-8A94-791F8DF3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7D9-9FD6-48E3-8738-3E4F83B3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EA0-2166-41D9-B834-E1FADEDA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2B3-6FE4-4840-9F6C-33DD441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6F1-7D1C-4C1D-9281-A58604A2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6DA95-816D-43AA-8C8F-D622333A62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