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44039"/>
        <c:axId val="70000495"/>
      </c:barChart>
      <c:catAx>
        <c:axId val="89244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00495"/>
        <c:crosses val="autoZero"/>
        <c:auto val="1"/>
        <c:lblAlgn val="ctr"/>
        <c:lblOffset val="100"/>
        <c:noMultiLvlLbl val="0"/>
      </c:catAx>
      <c:valAx>
        <c:axId val="70000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44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694-F6ED-45B7-97C6-F3D0C600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B842-9C9F-41D6-8A19-7BB37D5D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863-D999-4400-AE1F-61280F61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3C6-8FE9-4AFC-B136-5F28972E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839-894E-4D1B-80A2-E42B8C51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388-2D25-471D-A3D9-240612C4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EB7-D477-4E03-B991-D2BDB71B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DC6C-2C25-453D-A42D-8392F10F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C892-6770-4C64-A754-C8A4FCBA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94D-7764-479A-9291-BBF95533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964-5796-4DD1-A441-0DA3266E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5B5-4D13-4198-BE32-A8133604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04978-2A8A-4E7F-87AE-33D3E54869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