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40846"/>
        <c:axId val="23147227"/>
      </c:barChart>
      <c:catAx>
        <c:axId val="92140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47227"/>
        <c:crosses val="autoZero"/>
        <c:auto val="1"/>
        <c:lblAlgn val="ctr"/>
        <c:lblOffset val="100"/>
        <c:noMultiLvlLbl val="0"/>
      </c:catAx>
      <c:valAx>
        <c:axId val="23147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40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36B-CD97-4585-8941-92DE808A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4EC-15FB-4973-8477-2FC84A0D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D5D-238B-4081-BC60-A7FD65AC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FBB-8181-4CDA-9F96-4DE511DF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161-F659-40AE-806D-1914F20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449-F08B-4B2B-A9A7-07E46F53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453-43FA-468C-8B50-BF064787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97A-F4B5-43BF-B083-6B28743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F3B-9B77-4518-B67E-825FDED2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7D3-9B53-460B-A97C-1299C82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BE0-7AF4-4A7E-96F6-25A23ECE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E6F-7C1F-41C7-A2B1-9413E3D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A3E2-E363-4681-A10B-045983AA99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