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11273"/>
        <c:axId val="31088338"/>
      </c:barChart>
      <c:catAx>
        <c:axId val="59211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88338"/>
        <c:crosses val="autoZero"/>
        <c:auto val="1"/>
        <c:lblAlgn val="ctr"/>
        <c:lblOffset val="100"/>
        <c:noMultiLvlLbl val="0"/>
      </c:catAx>
      <c:valAx>
        <c:axId val="31088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11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F77-FDA6-4CBC-82CE-75223A3F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8C3-D938-4686-9E48-6EBCFB48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041-DABB-43A9-80A5-E6EDB9FC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B61-9DEB-43D7-BEA8-545C4A25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BFC-1F20-4316-8D31-41091D3B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B06-F8EB-4D1F-8D29-CBF5B237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037-1DD8-40AE-9D7F-13E4399A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DCB-9B43-44E0-A29E-5730CD4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C46-9A2A-473E-B820-55B47A7D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BE3-0E02-445A-881F-C43EA4A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FA0-DF52-464E-BFBB-EBFFFEAD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C2D-309F-4148-BD5F-F19ABF1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8BF2D-4F8B-418A-BF1A-78A4DF9DDA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