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62664"/>
        <c:axId val="29518610"/>
      </c:barChart>
      <c:catAx>
        <c:axId val="75062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18610"/>
        <c:crosses val="autoZero"/>
        <c:auto val="1"/>
        <c:lblAlgn val="ctr"/>
        <c:lblOffset val="100"/>
        <c:noMultiLvlLbl val="0"/>
      </c:catAx>
      <c:valAx>
        <c:axId val="29518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62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CAA-8A57-4CB0-9E3D-B007CC14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9F6-3667-43D5-A3DB-A86B642C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E17-4594-49DC-8EB6-51342D42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8F0-7867-4384-AA70-4552BB61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CC2-BE5F-4E6C-8FDC-84D3E4FE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CFF-D520-4AF4-A874-4A5600F0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B19-300B-44CD-9D2A-9CC4C51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07D-68E2-49AF-90F7-46AE2700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54B-72D4-426A-B728-9F119608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D9D-8AA6-4FD8-AC00-17BCFEB9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AE2-4709-4C9A-93AF-3B33EF4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49A-DCB1-40E0-A8DB-81B8E402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D4E84-2DFD-4DBA-976B-116D5745EE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