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956778"/>
        <c:axId val="70365110"/>
      </c:barChart>
      <c:catAx>
        <c:axId val="15956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65110"/>
        <c:crosses val="autoZero"/>
        <c:auto val="1"/>
        <c:lblAlgn val="ctr"/>
        <c:lblOffset val="100"/>
        <c:noMultiLvlLbl val="0"/>
      </c:catAx>
      <c:valAx>
        <c:axId val="70365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56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287-2564-4132-B0FB-E20D3A02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0CC7-DB45-42B6-93FA-57E66181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109-DD1C-428A-86C0-ED284D9D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E220-98C2-4FF0-8838-3F5B976A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29A5-803B-4FE2-B754-C8FD4EDF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0EF-3782-478D-9D57-C1330775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178-91BB-4F34-8697-68BFB6E7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CE8-9E46-4C9C-9381-4CC83684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50C-B00B-49BB-86BE-7F13B561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ABF-A9C3-40A7-8AEE-9BB91290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4E4-3629-481C-9199-38B89E4A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AFA-B347-4A75-A568-2615F4F2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E32F9-D802-454F-ACA2-E623CE122A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