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604283"/>
        <c:axId val="49538857"/>
      </c:barChart>
      <c:catAx>
        <c:axId val="346042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538857"/>
        <c:crosses val="autoZero"/>
        <c:auto val="1"/>
        <c:lblAlgn val="ctr"/>
        <c:lblOffset val="100"/>
        <c:noMultiLvlLbl val="0"/>
      </c:catAx>
      <c:valAx>
        <c:axId val="495388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042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337A-BAF0-48D8-98CE-61F7E948E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544B-0F4A-45AB-AECC-0A933191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38E1-92AD-4C48-BE45-5E84A456F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58C8-2ABA-448D-BBB3-72C7C3657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08B8-9D0A-4360-8AA5-A4E24EF1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37CF-F4A7-4702-962F-C9285E90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90B5-F545-446A-9219-ED16FB21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E21B-EB17-4F68-8D0D-E271746E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80DD-3393-4ED2-BB66-0C160A79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EBEB-6AA0-4BF7-8E0E-A0E6427C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A341-2561-4089-83AA-B67155D2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D6CA-23B9-4FE3-A2B3-BB4B242E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B776F-17A6-41CC-A215-E6D3FA37B4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