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05688"/>
        <c:axId val="54839238"/>
      </c:barChart>
      <c:catAx>
        <c:axId val="35505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9238"/>
        <c:crosses val="autoZero"/>
        <c:auto val="1"/>
        <c:lblAlgn val="ctr"/>
        <c:lblOffset val="100"/>
        <c:noMultiLvlLbl val="0"/>
      </c:catAx>
      <c:valAx>
        <c:axId val="54839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05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286-C687-4B1B-8236-ABB25094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B7F-9E8E-4A7C-8532-7A4C2D68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2E4-FE98-49EE-A726-7D419E3C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610-3BDB-4AD6-A675-913E7909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65A-C680-4DB5-A259-082BAA0E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DD2-2D2C-410C-AB24-37ED9051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965-4F9A-4552-9C74-002B0E63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73F-7299-45E4-B78A-CE5C13F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BB3-3AB7-4054-B1AE-F606508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3BC-941E-4128-9CF9-B5875EF0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D90-13B0-4C23-9587-BC7C406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222-9D61-441E-904B-60254F5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1845D-8C16-48E8-A7A8-02805AFE4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