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676019"/>
        <c:axId val="9253833"/>
      </c:barChart>
      <c:catAx>
        <c:axId val="326760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53833"/>
        <c:crosses val="autoZero"/>
        <c:auto val="1"/>
        <c:lblAlgn val="ctr"/>
        <c:lblOffset val="100"/>
        <c:noMultiLvlLbl val="0"/>
      </c:catAx>
      <c:valAx>
        <c:axId val="92538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6760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7A6E-C718-4383-8089-DE1A1DA28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EDF9-F02F-4010-93FE-62D4B654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9F9B-7F61-49EA-B69B-CB265F0AF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1C9D-BE9E-4B99-8969-E33D72E11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90BB-50A4-4C56-9FF3-E61552F9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DC8E-A2D5-4889-87CB-46FF16AC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EBCA-4B61-416A-B237-37BC4DAB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7F17-9CBB-4C2C-9B18-919A2D0B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85EE-9C14-4451-AB40-B1805943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78BF-C2F7-4A5D-B59F-7C0A5394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294A-0196-42B0-A425-B33DBBBD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436B-18A2-42E3-ACE6-40E6D089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D3EACF-1624-4A03-B7C6-C36935430E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