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3843"/>
        <c:axId val="76736318"/>
      </c:barChart>
      <c:catAx>
        <c:axId val="14953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6318"/>
        <c:crosses val="autoZero"/>
        <c:auto val="1"/>
        <c:lblAlgn val="ctr"/>
        <c:lblOffset val="100"/>
        <c:noMultiLvlLbl val="0"/>
      </c:catAx>
      <c:valAx>
        <c:axId val="76736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3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E18-3306-4BA1-B2BC-0166059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0C9-C3F3-4A52-AC18-A51E2E73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33D-13FC-439A-9EA0-C5D4E8E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702-4C26-4BFF-80AE-89D95A94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39A-F502-4B9A-9D2C-82C2ACFC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0C5-297B-4640-AAFA-498E638B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EA0-36E8-4D60-B1D5-B133BEDB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D52-1D84-47FF-A087-563CD9F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21D-BE88-4F04-A062-7F302DD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B31-6C6D-4BCA-8716-7A729EB0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6F4-23BE-40A0-ACF9-1384DB3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6B6-F303-454E-889D-EB92C2E6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0DF4-AE35-4209-9341-EAA41B5D8B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