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59461"/>
        <c:axId val="62939610"/>
      </c:barChart>
      <c:catAx>
        <c:axId val="46259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39610"/>
        <c:crosses val="autoZero"/>
        <c:auto val="1"/>
        <c:lblAlgn val="ctr"/>
        <c:lblOffset val="100"/>
        <c:noMultiLvlLbl val="0"/>
      </c:catAx>
      <c:valAx>
        <c:axId val="62939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59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287-415F-42AF-911F-B44C0300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985-8BDF-4169-A3EA-C4B3FB78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D77-3666-47A4-9B6E-986F4847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724-22D3-4882-8CB8-A7C9C0A4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E63-F119-43D1-9BCF-5D339A6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2A6-82AC-4EE4-B214-6CB1239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30A-AC4F-43ED-B02A-9A90A88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816-7B56-4DB0-98C5-F88BEC10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818-D0E4-4825-B908-3215DC8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165-D548-407A-9921-537A3FE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BCF-BE6B-4C40-AFDC-6824ABD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1C0-D649-4D38-AFBA-9AB2E0C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147F3-BABA-465C-A5DA-56F53874F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