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953219"/>
        <c:axId val="97750466"/>
      </c:barChart>
      <c:catAx>
        <c:axId val="439532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750466"/>
        <c:crosses val="autoZero"/>
        <c:auto val="1"/>
        <c:lblAlgn val="ctr"/>
        <c:lblOffset val="100"/>
        <c:noMultiLvlLbl val="0"/>
      </c:catAx>
      <c:valAx>
        <c:axId val="977504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9532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89F9-CC14-4284-9F84-A0C0F2C97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ED96-8FDE-4999-BE2C-A34901A10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ECF7-3A0E-4D3B-9D68-08AA1E9E8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BD2F-606C-4C54-9763-1C4A6EB35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68A0-D592-4B9B-AC50-3FAE27DCD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5CAA-76D6-4C16-9413-AF4B4C872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7CC1-EB69-4BCA-AB08-4CD801CA3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DB05-F0FC-44F0-B7F5-5B3316F54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EE62-0B6D-488C-9302-57A240A5D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CF58-75FD-4510-9E90-159C49D0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3939-AD7E-49DA-BA06-56FBAEFF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1CA5-5CD0-49D8-A599-F53D0505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7C7526-0424-4629-82B3-8FE921E7602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