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01830"/>
        <c:axId val="86225168"/>
      </c:barChart>
      <c:catAx>
        <c:axId val="868018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25168"/>
        <c:crosses val="autoZero"/>
        <c:auto val="1"/>
        <c:lblAlgn val="ctr"/>
        <c:lblOffset val="100"/>
        <c:noMultiLvlLbl val="0"/>
      </c:catAx>
      <c:valAx>
        <c:axId val="862251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018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7ED-663B-4424-8921-D0B21F21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E441-B7ED-4D43-9C3C-272E1B8E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5B8-0CD1-487E-8AC9-E8EED014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836-1B4E-4875-A833-7C360CAC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8B18-48CA-4931-AF3A-6DD85573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0FA8-D79A-47E8-9CBD-324A4DE2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8E9F-BC23-47FF-976F-9938DE30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BB69-7FC2-4313-9606-9BED3A35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DB59-30BE-4715-80D9-248364BB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A04-2868-4A7E-B975-2955B7CF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9176-D905-4B4F-9C5B-31088D0B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D616-7443-4E3E-B032-19206D03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3E567-6C61-4050-A546-27E0B00EFA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