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84474"/>
        <c:axId val="66487172"/>
      </c:barChart>
      <c:catAx>
        <c:axId val="39984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7172"/>
        <c:crosses val="autoZero"/>
        <c:auto val="1"/>
        <c:lblAlgn val="ctr"/>
        <c:lblOffset val="100"/>
        <c:noMultiLvlLbl val="0"/>
      </c:catAx>
      <c:valAx>
        <c:axId val="66487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84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B9B-2919-44FC-8952-DBD3197E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32E-50FD-46F4-A53B-E1E47CD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B1C-D358-45E9-AFFC-68E123F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0C6-796D-490B-AB7D-D96F4BA4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E09-F1DE-4617-AA36-77B7480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2BA-76EC-4439-98BF-100CF0C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582-30EC-4D42-8ECE-EF1E42A5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106-C2F4-4C2F-A630-936097C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6E8-D3D0-46B5-BFE1-7BCFC9D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F71-9F65-4756-B51E-DE4A047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6F0-4E76-4601-9192-22AFB26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A75-BDD3-4DA6-9B1A-6188335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B19A-5AAE-48E1-92C7-BB1A307EA1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