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560229"/>
        <c:axId val="31465309"/>
      </c:barChart>
      <c:catAx>
        <c:axId val="505602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465309"/>
        <c:crosses val="autoZero"/>
        <c:auto val="1"/>
        <c:lblAlgn val="ctr"/>
        <c:lblOffset val="100"/>
        <c:noMultiLvlLbl val="0"/>
      </c:catAx>
      <c:valAx>
        <c:axId val="314653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5602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9266-6186-4C7F-BF28-7811F79DD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4F4A-68B3-4F12-935C-AE104DFA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B9EC-1ED5-4F93-A689-8A2ED0263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59A1-55D3-4BFD-9E97-4A57F27EB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57A9-186C-4635-9DCD-6F25D73DB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39A6-99C7-4605-B16A-1F6B8F962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BBEC-5B56-4F06-87FF-1DC94061F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6FAF-8083-4EED-871A-FAEB9A4FF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9AED-67F8-4D5A-A066-C38483073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6D83-EF3A-4E74-935E-400B7D70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5438-0E3C-4412-9024-A501EEC6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E2CF-14B6-487A-AAE7-44D09898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BC2B8C-7667-4E26-9B40-2A57B0488BC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