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16504"/>
        <c:axId val="14969897"/>
      </c:barChart>
      <c:catAx>
        <c:axId val="55416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69897"/>
        <c:crosses val="autoZero"/>
        <c:auto val="1"/>
        <c:lblAlgn val="ctr"/>
        <c:lblOffset val="100"/>
        <c:noMultiLvlLbl val="0"/>
      </c:catAx>
      <c:valAx>
        <c:axId val="14969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16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B66-B08F-4444-B2FE-5B70E606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75C-0F5E-42D7-9604-74893C2E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A2B-7EE8-42CE-96F8-DF7BCD9F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F01-4495-41E3-8D2A-CB34F610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A5B-19B6-4684-8E6A-F0D4818D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696-27D1-48E1-ADC7-CA60CA83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635-AEE1-4729-B516-95263A72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68E-932C-4FB9-99ED-078B6E82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4E6-B0F2-41E4-A641-905994AF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04D-5609-4981-9796-1BB415A1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381-1796-4040-817D-8AE8321D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963-13D1-4205-BE8A-02AAA8C2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84149-B29D-425C-8351-D1ED6AB41B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