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48855"/>
        <c:axId val="96957911"/>
      </c:barChart>
      <c:catAx>
        <c:axId val="63648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57911"/>
        <c:crosses val="autoZero"/>
        <c:auto val="1"/>
        <c:lblAlgn val="ctr"/>
        <c:lblOffset val="100"/>
        <c:noMultiLvlLbl val="0"/>
      </c:catAx>
      <c:valAx>
        <c:axId val="96957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48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43D-2053-45B3-9500-F8138E0D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BE67-189A-4A59-9B3E-6BF9AC4D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60C-D7DC-4335-BC47-E0F7A22C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5AF-EAD0-4B92-98EC-ABECDB23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5C2-16D8-449F-846B-5428F974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1E1-3F1A-4BC9-8DCD-DA5AFE2E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07F-BFDC-4824-A74F-AE79D1A3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6C1-4045-4FF5-845C-136B1AB3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937-4AA0-4940-B771-BFCE98A3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7BD-80D7-4698-8D36-CED6A043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B646-50CE-45F0-85B3-84748475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6FF-68B3-4625-A885-60FEF884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51492-90C2-4093-99DE-A9A2A95966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