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4494"/>
        <c:axId val="80010563"/>
      </c:barChart>
      <c:catAx>
        <c:axId val="7964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0563"/>
        <c:crosses val="autoZero"/>
        <c:auto val="1"/>
        <c:lblAlgn val="ctr"/>
        <c:lblOffset val="100"/>
        <c:noMultiLvlLbl val="0"/>
      </c:catAx>
      <c:valAx>
        <c:axId val="80010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4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B56-544E-4779-B41A-D8CF1F1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79B-14C6-4D7B-8167-0120D48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A5-082C-4C01-8494-867D8CD2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D2B-2F9E-489C-94AC-BBEEB284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C26-D121-4EC4-8E62-A770775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079-DC18-48AD-95CF-91AC0A2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7A6-027C-4294-B4A2-14E612C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CA6-AB33-4612-9A26-6B70517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5F9-ABBB-488E-AC1A-E82B48A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ED6-8C8A-49A9-9D5E-2C284C6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7D0-127C-4B52-9086-9E56E67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E02-C744-49F4-8FA7-3FF8ECD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9F7A0-8FE6-456A-98FA-C7E00FD11B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