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49521"/>
        <c:axId val="9991229"/>
      </c:barChart>
      <c:catAx>
        <c:axId val="82249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1229"/>
        <c:crosses val="autoZero"/>
        <c:auto val="1"/>
        <c:lblAlgn val="ctr"/>
        <c:lblOffset val="100"/>
        <c:noMultiLvlLbl val="0"/>
      </c:catAx>
      <c:valAx>
        <c:axId val="9991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49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8E5-69F7-412C-BD1C-4E2B8DC7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30F-0EFC-4DE0-9E1B-A00B9F25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6CA-A406-483B-8D2E-A2571D65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FB3-0C41-4A8E-A2A0-54720758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6DD-1ACF-4DA9-8DA4-BDD3E264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2FF-63C5-48BD-AE0F-B28FBB70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824-7336-4F43-B830-575C82DE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67D-869E-4F5D-8E17-C710A31E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3CF-6132-46B2-8A61-44D4B359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54E-21F3-4F5F-8966-545D69CC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321-1110-4918-8688-B8F69FAA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CDF-DAAA-4DA8-863D-8CE87CFC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0021A-EF1A-4EC1-8643-C37C716611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